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852-1455-4D83-A9F3-CED2CA0F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0FB-C25B-4B6C-9DBC-E8536C3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5AF-89D2-4B89-ABEA-D771B14C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F46-947F-4AA4-97B8-C271D2DC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E453-6647-450A-BF5D-B563C7C7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C31C-9A95-4236-916E-FB73B262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E06-5AEB-4370-8067-3593BF9B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3347-AE2D-49A1-9301-AC505D2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DFD-AC7A-4AF5-938A-F48159A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6455-7F15-474F-8BCE-BD53E1F6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6E9E-7FD7-46A0-B1F5-A8C4BFE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DBB-EBFF-4F8C-BD33-911E02C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E085-B0CE-405C-A350-3317FB2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1466-D2E4-4A0F-BA30-9A99DBB1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5F31-9361-4272-84A8-F55BA55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3C48-ACAA-4D56-867B-61444FFF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F67-F30A-4335-9D9C-328E5DDB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24AB5-7659-4159-B2C0-B6CBDEDE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0825-B907-4EC0-A261-D1540CAD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D009F-06F1-4E90-853C-DF428E09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BEFAF-7E52-4438-9A1F-F18AD1B6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372B5-1881-4026-9EBE-45050DA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9F0-12F2-4D68-9F3B-88FC05D6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ADA8C-D6EE-4D74-A5BB-29E2A6D3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1FBC5-F041-4E01-A0E5-B150C33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EACDF-0BF9-4387-A368-343A96D2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E860D-11F4-4EE0-BB74-573409C8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BD7F8-0913-45D7-90FB-9A1CDE6D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29E90-E3D8-4448-B271-8A9D94C8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1BFEB-3A0E-499B-B0A3-830C8616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73B7-B8C9-4AB6-A8A5-F1864659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7A19-3D5F-48F9-B08D-4025682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1D04-E51A-44D8-83B1-92777E6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C0C-6092-492D-9F98-1AFC2BC5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74D6-54AA-4DA7-B85D-776BB80D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CC1F-202A-4E5B-8CAD-0C477F6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7503-6B68-40A7-9BCE-008C275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A388-8D78-43DB-9F04-6FEB02B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797F-456C-492A-B672-8E265F2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4A37-3034-41A9-A5ED-D972536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957B-DEFC-41D3-837C-690B54C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FDE9-3AB4-4FA6-B488-14482946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4244-D3F0-4368-BA5D-3CC8088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E36-0F60-4AFA-9855-1B84BF6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288-8D38-4021-BF12-258B496A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9D8-A600-4FE2-ACBB-2CEDD4B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4CC-1D24-484A-B417-4F8EF1B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C37-9E04-4F4E-AA1E-E33C1FD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E3D-F393-4FE0-B223-C0CC13E3FF1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4FE8-F90D-4630-B720-EFF23E1A4B9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A04C-FFF9-44D1-A944-35CF93D2334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E852-CAC0-4D36-BF83-F6730A6D14F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anadianbiodiversity.mcgill.ca/english/ecozones/atlanticmaritime/atlanticmaritime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4c600"/>
                </a:solidFill>
                <a:latin typeface="Century Gothic"/>
              </a:rPr>
              <a:t>Ecozones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Century Gothic"/>
              </a:rPr>
              <a:t>Atlantic Canad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24680" cy="21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s an Ecozone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 ecozone is a region that has similar landforms, vegetation and wildlif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cozones are affected by climat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820520" y="-8104680"/>
            <a:ext cx="3715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0" name="Content Placeholder 5" descr=""/>
          <p:cNvPicPr/>
          <p:nvPr/>
        </p:nvPicPr>
        <p:blipFill>
          <a:blip r:embed="rId1"/>
          <a:stretch/>
        </p:blipFill>
        <p:spPr>
          <a:xfrm>
            <a:off x="1143000" y="603360"/>
            <a:ext cx="701028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tlantic Canad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6632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re are two major ecozones in Atlantic Canad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va Scotia, New Brunswick and Prince Edward Island are in the Atlantic Maritime Ecozo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wfoundland and Labrador is in the Southern Shield Zo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9036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nadianbiodiversity.mcgill.ca/english/ecozones/atlanticmaritime/atlanticmaritime.h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lantic Maritime Ecozone.wmv - YouTube.mp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70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tlantic Maritime Shiel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3581280" y="1936800"/>
            <a:ext cx="2286000" cy="1949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762120" y="190512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3581280" y="4357800"/>
            <a:ext cx="228600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6248520" y="4357800"/>
            <a:ext cx="220968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Oval 9"/>
          <p:cNvSpPr/>
          <p:nvPr/>
        </p:nvSpPr>
        <p:spPr>
          <a:xfrm>
            <a:off x="762120" y="434340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6248520" y="1905120"/>
            <a:ext cx="220968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1348920" y="19033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odie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4051080" y="21398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ndform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6678360" y="21146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1452600" y="4484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dlif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065840" y="43434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TextBox 17"/>
          <p:cNvSpPr/>
          <p:nvPr/>
        </p:nvSpPr>
        <p:spPr>
          <a:xfrm>
            <a:off x="6816960" y="446076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canadianbiodiversity.mcgill.ca/english/ecozones/borealshield/borealshield.h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Boreal Shield Ecozone - YouTube.mp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456840"/>
            <a:ext cx="7024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uthern Shiel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Oval 3"/>
          <p:cNvSpPr/>
          <p:nvPr/>
        </p:nvSpPr>
        <p:spPr>
          <a:xfrm>
            <a:off x="3581280" y="1936800"/>
            <a:ext cx="2286000" cy="194940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Oval 4"/>
          <p:cNvSpPr/>
          <p:nvPr/>
        </p:nvSpPr>
        <p:spPr>
          <a:xfrm>
            <a:off x="762120" y="190512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3581280" y="4357800"/>
            <a:ext cx="228600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6248520" y="4357800"/>
            <a:ext cx="2209680" cy="19666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762120" y="4343400"/>
            <a:ext cx="236196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6248520" y="1905120"/>
            <a:ext cx="2209680" cy="1981080"/>
          </a:xfrm>
          <a:prstGeom prst="ellipse">
            <a:avLst/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1348920" y="19033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Bodies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4051080" y="21398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Landform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6678360" y="21146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Veget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1452600" y="44845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Wildlif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4065840" y="43434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TextBox 14"/>
          <p:cNvSpPr/>
          <p:nvPr/>
        </p:nvSpPr>
        <p:spPr>
          <a:xfrm>
            <a:off x="6816960" y="446076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4:09:32Z</dcterms:created>
  <dc:creator>ladmin</dc:creator>
  <dc:description/>
  <dc:language>en-US</dc:language>
  <cp:lastModifiedBy>Terry, Sean J. (ASD-E)</cp:lastModifiedBy>
  <dcterms:modified xsi:type="dcterms:W3CDTF">2017-12-06T02:14:05Z</dcterms:modified>
  <cp:revision>8</cp:revision>
  <dc:subject/>
  <dc:title>Ecozones</dc:title>
</cp:coreProperties>
</file>